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9B4-7AE2-4AA6-B74E-E88ACDA5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D3A-F044-4CD1-B810-244B288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FC8-6691-4BAC-9B51-E0D09157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7E4-DE96-46FD-93BE-28874F45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FDC-732D-4732-A673-71C5CEF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216-B472-42D3-856C-B148590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7FB-575C-4E7F-86DD-2BE506D7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126-0100-40D4-97C3-A6E8D771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F4A-2F76-4B9F-976F-8770D599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850-EB4D-48B6-8DF5-D722B7F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995-593D-4FF6-B941-6C8BC38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272-1B37-4FC7-8EDC-4B0CC96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4D5-A453-42D9-9A4D-C977DC7EC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609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ra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219320"/>
            <a:ext cx="4876920" cy="706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Tranio: I really hope my master wins Bian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Biondello:  I agree.  She’s ho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609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Bi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609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Kather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609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Petruch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60948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utura Bk"/>
              </a:rPr>
              <a:t>Baptis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320" y="3048120"/>
            <a:ext cx="16761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"/>
            <a:ext cx="6858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15080" y="228600"/>
            <a:ext cx="1942920" cy="228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Home     Profile    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57240" y="3152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40" y="57240"/>
            <a:ext cx="1190880" cy="399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752480" cy="129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82880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60948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utura Bk"/>
              </a:rPr>
              <a:t>Lucent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53352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669960"/>
            <a:ext cx="441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(write current status here – only make one line due to formatting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2209680"/>
            <a:ext cx="1600200" cy="23184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3276720"/>
            <a:ext cx="1676160" cy="106488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onship Statu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e (Logical Gues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l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1240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20968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5715000"/>
            <a:ext cx="167616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5302080"/>
            <a:ext cx="1676160" cy="4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nds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ed at least 10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4 non-play characters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list, no pictures need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5378400"/>
            <a:ext cx="7632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7664400"/>
            <a:ext cx="1676520" cy="648000"/>
          </a:xfrm>
          <a:prstGeom prst="rect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7283520"/>
            <a:ext cx="167652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would he/she support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7359480"/>
            <a:ext cx="75960" cy="76320"/>
          </a:xfrm>
          <a:prstGeom prst="rtTriangl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876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219320"/>
            <a:ext cx="4876920" cy="687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RECENT ACTIVITY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(Interact with at </a:t>
            </a:r>
            <a:r>
              <a:rPr b="0" i="1" lang="en-US" sz="800" spc="-1" strike="noStrike">
                <a:solidFill>
                  <a:srgbClr val="808080"/>
                </a:solidFill>
                <a:latin typeface="Arial"/>
              </a:rPr>
              <a:t>lea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6 others; 2 threaded conversations, minimum 8 lin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04:17Z</dcterms:created>
  <dc:creator>swellman</dc:creator>
  <dc:description/>
  <dc:language>en-US</dc:language>
  <cp:lastModifiedBy>swellman</cp:lastModifiedBy>
  <dcterms:modified xsi:type="dcterms:W3CDTF">2010-05-11T20:28:21Z</dcterms:modified>
  <cp:revision>33</cp:revision>
  <dc:subject/>
  <dc:title>Slide 1</dc:title>
</cp:coreProperties>
</file>